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899-904A-42EE-A50A-45059CC2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8A4-38D4-474A-B45B-A83BFB61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4A1-6D1D-45F6-BDFE-6866C55F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241-C4B7-4BE6-8C2E-9B9DD688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8DE5-3BEE-4174-A2FB-18645981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F145-C11D-409B-B46F-CA624B4E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7D78-4662-411E-93E3-6D4D7D06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1DCF-28AA-4B54-BC42-A931E44E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91CC-32E1-47FE-B455-8CAED8BD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4CD6-0C80-4B1C-BB61-AAF506A8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9294-7A89-4D32-8860-D3C68817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4B4-7760-4B87-BC08-02588537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1A51-2002-4616-8251-48BB1B90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1C42-37BA-4240-925A-1403D449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3EAD-AD85-4251-84D5-45581DC9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B423-37E1-4F81-9D2A-8CCA79CB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518E-7B00-45AB-B4C6-AAA6DA81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33D40-6612-46EA-A403-AEC79BBE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BED35-A112-45BE-ABD7-604D471A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A85F3-4CFD-4773-A9AA-395D35A5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5E6D3-F147-435D-B16A-6C9C2795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D289-046D-4B41-8619-944E495C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BDB-1974-46AF-A5E7-9A319FA3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55846-E6E3-4415-9D5F-842B9661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6E3CB-7A25-4258-9EBB-25130FE9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90FF8-F59D-4447-830A-A17F57E3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7EA79-3E89-46FE-9A8A-B2F4DA58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79F6A-0A01-4862-8FE3-CA959587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E5B16-15C2-44C5-BEE6-6EB8D563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FEC45-C5E0-4B21-B330-229302EA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CE322-47DB-4992-A027-722F883D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CE270-5BDC-4ABB-9066-091B9B0E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C17E4-E326-4844-B7AF-2F0B8E63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E18A-3CB8-4867-AFD2-481E0F12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5E635-0AA1-4F1C-92B7-188A757B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0697C-9417-43C8-BCFA-7AB71130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1922B-E48C-482A-8F67-9F2E948A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BF3A6-0185-449E-B371-8E4822EB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6F720-F886-461E-BB35-85862E17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6C614-60D0-484B-B927-92026096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B417E-5C8B-4F51-B5D7-C205AA61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98D7B-027C-4F72-AF5B-F0507783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06AB9-EB7A-49FF-809A-3FDDCEBC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B15AA-C005-4303-8B66-74218E06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255-F68E-454F-B5D0-A30A1AAA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D0859-3857-4641-BB9A-1731A692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EFE69-C112-412D-9346-F255404B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8DFB3-91AC-4B88-978E-884F4910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4DF2D-67AC-4ADA-9BEC-99FB619A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B1DEF-B060-45D0-8C54-2CAE7924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FEB06-0E41-4C6D-9524-912552F9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362B3-EB54-4E96-A70E-4FA48E40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AD0A3-CA0D-4CF4-B53E-719C07F1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642F8-3B85-4CF7-A15B-559AA650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D9565-D9C4-406D-A586-191530A6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66F-6FFB-4917-AB89-AF99FA92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5F7D0-F398-4FCB-A1E5-6342BC60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886-806C-4DC3-A979-E6229183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E41-9AB5-4873-8E16-92D12FCA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A4D-3175-46C0-A096-7BFA12E7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F3F9-5E86-4B42-9099-99B032A07E8B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20FB-E4CC-43F1-9F1D-35D3E5D6C49E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3ACE-B9C2-44F1-A5FB-BF0B258E9D74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5F51-8288-440B-8A9B-7EEEB6B55F8B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4CFA-6BB5-4775-8F97-B78E0567B685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Прогноз социально-экономического развития МО «Можгинский район» на 2017 год и плановый период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2018-2019 годы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7" name="Picture 6" descr="Герб"/>
          <p:cNvPicPr/>
          <p:nvPr/>
        </p:nvPicPr>
        <p:blipFill>
          <a:blip r:embed="rId1"/>
          <a:stretch/>
        </p:blipFill>
        <p:spPr>
          <a:xfrm>
            <a:off x="-19080" y="0"/>
            <a:ext cx="824040" cy="2090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флаг"/>
          <p:cNvPicPr/>
          <p:nvPr/>
        </p:nvPicPr>
        <p:blipFill>
          <a:blip r:embed="rId2"/>
          <a:stretch/>
        </p:blipFill>
        <p:spPr>
          <a:xfrm>
            <a:off x="7662960" y="0"/>
            <a:ext cx="150012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в основной капитал за счет всех источников финансирования, млн. руб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415800" y="1384200"/>
          <a:ext cx="8310600" cy="52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384200"/>
                    <a:ext cx="831060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87200" y="0"/>
            <a:ext cx="75150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ство и реконструкция объект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99640" y="1052280"/>
            <a:ext cx="772956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бюджета  Удмуртской Республики  и бюджета района в соответствии перечнем объектов коммунального комплекса   и  объектов социальной сферы на 2016 год  выделено -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550,80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.руб.: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снабжение ул. Малиновской в д. Малая Сюга (СМР )  план -2420,00 тыс.руб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е перевооружение системы теплоснабжения объектов социальной сферы (ЦСДК и школа) с переводом на газ д. Верхние Юри - 840,00 тыс.руб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нструкция  крыши здания МБОУ «Русско-Сюгаильская СОШ -3390,80 тыс.руб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нструкция  крыши здания МБОУ «Большеучинская СОШ в с. Большая Уча Можгинского района УР (долевое участи Правительства)-2100,00 тыс.руб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ьный ремонт части здания общеобразовательной школы с размещением детского сада на 30 мест в д. Нижний Вишур -35,00 тыс. руб;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а оконных блоков здания МБОУ «Большеучинская СОШ -1000,00 тыс.руб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в д. Новый Русский Сюгаил выполнены проектно –изыскательские работы, сметная документация  проходит экспертизу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ройка детского сада в с. Черемушки выполнены проектно –изыскательские работы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3512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е МО «Можгинский район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77" name="Object 5"/>
          <p:cNvGraphicFramePr/>
          <p:nvPr/>
        </p:nvGraphicFramePr>
        <p:xfrm>
          <a:off x="1403280" y="836640"/>
          <a:ext cx="658332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836640"/>
                    <a:ext cx="658332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7"/>
          <p:cNvSpPr/>
          <p:nvPr/>
        </p:nvSpPr>
        <p:spPr>
          <a:xfrm>
            <a:off x="1476360" y="5805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едний возраст продолжительности жиз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ужчин – 59 лет  (по УР – 64 года), у женщин – 73 года (по УР – 7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мертност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ечно-сосудистые заболева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кологические заболева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 легких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ально-вирусные инфекци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матиз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сленная средняя заработная плата одного работника (в среднем  за период), руб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179280" y="1387440"/>
          <a:ext cx="9145800" cy="48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387440"/>
                    <a:ext cx="91458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еднесписочная численность работников, чел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24000" y="619200"/>
          <a:ext cx="8262720" cy="6011640"/>
        </p:xfrm>
        <a:graphic>
          <a:graphicData uri="http://schemas.openxmlformats.org/drawingml/2006/table">
            <a:tbl>
              <a:tblPr/>
              <a:tblGrid>
                <a:gridCol w="7466040"/>
                <a:gridCol w="7966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кое хозяйство, охота и лес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атывающее произ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овая и розничная торгов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 и с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ое управление и обеспечение военной безопасност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ое страх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равоохранение и предоставление социальных 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прочих коммунальных, социальных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ьных 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по организации отдыха и развлечений, культуры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П + КФ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емных работников у ИП и КФ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муниципальных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 на  2016-2020 гг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826920" y="1197000"/>
          <a:ext cx="7848720" cy="4816440"/>
        </p:xfrm>
        <a:graphic>
          <a:graphicData uri="http://schemas.openxmlformats.org/drawingml/2006/table">
            <a:tbl>
              <a:tblPr/>
              <a:tblGrid>
                <a:gridCol w="541440"/>
                <a:gridCol w="730728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Комплексные меры противодействия немедицинскому потреблению наркотических средств и их незаконному обороту в МО "Можгинский район" на 2015-2020 годы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Охрана здоровья и формирование здорового образа жизни населения в Можгинском районе на 2015-2020 годы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Энергосбережение и повышение энергетической эффективности муниципального образования «Можгинский район» на 2015-2020 годы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Развитие образования и воспитания в Можгинском районе на 2015-2020 годы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Управление муниципальными финансами в Можгинском районе на 2015-2020 годы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Социальная поддержка населения в Можгинском районе на 2015-2020 годы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4"/>
          <p:cNvSpPr/>
          <p:nvPr/>
        </p:nvSpPr>
        <p:spPr>
          <a:xfrm>
            <a:off x="2916360" y="2349360"/>
            <a:ext cx="4535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971640" y="2421000"/>
            <a:ext cx="51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1547640" y="2924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900000" y="1341360"/>
          <a:ext cx="7848720" cy="4592880"/>
        </p:xfrm>
        <a:graphic>
          <a:graphicData uri="http://schemas.openxmlformats.org/drawingml/2006/table">
            <a:tbl>
              <a:tblPr/>
              <a:tblGrid>
                <a:gridCol w="540000"/>
                <a:gridCol w="73087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Муниципальное управление в Можгинском районе на 2015-2020 годы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Содержание  и развитие муниципального хозяйства в Можгинском районе на 2015-2020 годы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Безопасность в Можгинском районе на 2015-2020 годы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Создание условий для устойчивого экономического развития в Можгинском районе на 2015-2020 годы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Развитие культуры в Можгинском районе на 2015-2020 годы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Развитие систем гражданской обороны и защиты населения от чрезвычайных ситуаций природного и техногенного характера в муниципальном образовании «Можгинский район» на 2013-2017 годы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0acec"/>
                      </a:solidFill>
                    </a:lnL>
                    <a:lnR w="5760">
                      <a:solidFill>
                        <a:srgbClr val="30acec"/>
                      </a:solidFill>
                    </a:lnR>
                    <a:lnT w="5760">
                      <a:solidFill>
                        <a:srgbClr val="30acec"/>
                      </a:solidFill>
                    </a:lnT>
                    <a:lnB w="5760">
                      <a:solidFill>
                        <a:srgbClr val="30ace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муниципальных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 на  2016-2020 гг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971640" y="155736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2" marL="1200240" indent="-285840">
              <a:spcBef>
                <a:spcPts val="10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СПАСИБО ЗА ВНИМАНИЕ 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udmurtia"/>
          <p:cNvPicPr/>
          <p:nvPr/>
        </p:nvPicPr>
        <p:blipFill>
          <a:blip r:embed="rId1"/>
          <a:stretch/>
        </p:blipFill>
        <p:spPr>
          <a:xfrm>
            <a:off x="262080" y="189000"/>
            <a:ext cx="2962080" cy="8516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763px-Map_of_Mozhga_Districts_ru"/>
          <p:cNvPicPr/>
          <p:nvPr/>
        </p:nvPicPr>
        <p:blipFill>
          <a:blip r:embed="rId2"/>
          <a:stretch/>
        </p:blipFill>
        <p:spPr>
          <a:xfrm>
            <a:off x="3780000" y="66600"/>
            <a:ext cx="496728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нормативно-правовых актов для разработки Прогноз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55640" y="1341360"/>
          <a:ext cx="8229600" cy="4934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50880">
                <a:tc>
                  <a:txBody>
                    <a:bodyPr lIns="90000" rIns="90000" t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юджетный кодекс Российской Федерац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Федеральный закон № 172-ФЗ «О стратегическом планировании в Российской Федерации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960">
                <a:tc>
                  <a:txBody>
                    <a:bodyPr lIns="90000" rIns="9000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Закон Удмуртской Республики  № 81-РЗ «О стратегическом планировании в Удмуртской Республике и внесении изменений в отдельные законы Удмуртской Республики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4880">
                <a:tc>
                  <a:txBody>
                    <a:bodyPr lIns="90000" rIns="9000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становление Администрации муниципального образования «Можгинский район» № 1674 «Об утверждении Положения о разработке прогноза социально- экономического развития муниципального образования «Можгинский район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3360" y="-100440"/>
            <a:ext cx="82249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18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жидаемые результаты выполнения Прогноза СЭР в 2016 году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620640"/>
          <a:ext cx="8856720" cy="5730840"/>
        </p:xfrm>
        <a:graphic>
          <a:graphicData uri="http://schemas.openxmlformats.org/drawingml/2006/table">
            <a:tbl>
              <a:tblPr/>
              <a:tblGrid>
                <a:gridCol w="5256000"/>
                <a:gridCol w="865440"/>
                <a:gridCol w="863640"/>
                <a:gridCol w="863640"/>
                <a:gridCol w="1008000"/>
              </a:tblGrid>
              <a:tr h="5968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 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63360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гружено товаров собственного производства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о работ и услуг собственными сил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 роста в фактических ценах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470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валовой продукции сельского хозяй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2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1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</a:tr>
              <a:tr h="412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 роста в фактических цен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ничный товарооборот (во всех каналах реализации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 роста в фактических цен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547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стиции в основной капитал за счет всех источник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ирова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</a:tr>
              <a:tr h="320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 роста в фактических ценах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ная средняя заработная плата одн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а (в среднем за период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4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3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8f1fb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 роста в фактических цен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631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регистрируемой безработицы сред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 активного населения на конец пери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1f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28480" y="9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объемов производства в 2015-2019 год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лн. рублей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56" name="Object 40"/>
          <p:cNvGraphicFramePr/>
          <p:nvPr/>
        </p:nvGraphicFramePr>
        <p:xfrm>
          <a:off x="709560" y="1335240"/>
          <a:ext cx="8242200" cy="389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1335240"/>
                    <a:ext cx="8242200" cy="38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42"/>
          <p:cNvSpPr/>
          <p:nvPr/>
        </p:nvSpPr>
        <p:spPr>
          <a:xfrm>
            <a:off x="1332000" y="53737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- обрабатывающие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ение электроэнергией, газом и паром; кондиционирование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оснабжение: водоотведение, организация сбора и утилизация отходов, деятельность по организации загряз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иды продукц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60" name="Объект 25"/>
          <p:cNvGraphicFramePr/>
          <p:nvPr/>
        </p:nvGraphicFramePr>
        <p:xfrm>
          <a:off x="853920" y="1433520"/>
          <a:ext cx="7745400" cy="46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Объект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1433520"/>
                    <a:ext cx="774540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9372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валовой  продукции сельского хозяйства, млн. руб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63" name="Object 4"/>
          <p:cNvGraphicFramePr/>
          <p:nvPr/>
        </p:nvGraphicFramePr>
        <p:xfrm>
          <a:off x="693720" y="1479600"/>
          <a:ext cx="8271000" cy="45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479600"/>
                    <a:ext cx="82710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молока предприятиями всех форм собственности, тонн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66" name="Object 2"/>
          <p:cNvGraphicFramePr/>
          <p:nvPr/>
        </p:nvGraphicFramePr>
        <p:xfrm>
          <a:off x="318960" y="1773360"/>
          <a:ext cx="8807400" cy="397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773360"/>
                    <a:ext cx="880740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товарооборо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 всех каналах реализации), млн. руб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69" name="Object 4"/>
          <p:cNvGraphicFramePr/>
          <p:nvPr/>
        </p:nvGraphicFramePr>
        <p:xfrm>
          <a:off x="492120" y="1460520"/>
          <a:ext cx="794232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1460520"/>
                    <a:ext cx="79423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9:45:01Z</dcterms:created>
  <dc:creator>User</dc:creator>
  <dc:description/>
  <dc:language>en-US</dc:language>
  <cp:lastModifiedBy>Филиппов</cp:lastModifiedBy>
  <dcterms:modified xsi:type="dcterms:W3CDTF">2016-10-25T09:44:22Z</dcterms:modified>
  <cp:revision>133</cp:revision>
  <dc:subject/>
  <dc:title>Прогноз социально-экономического  развития  Можгинского района  на 2010-2012 гг.</dc:title>
</cp:coreProperties>
</file>